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0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522720" y="-360"/>
            <a:ext cx="7715160" cy="57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28C4-EE6F-4673-B674-2F1D12ADE2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사면 실험의 효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유낙하를 느리게 연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슬로우 비디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 자세한 관찰 가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그림 타르탈리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Tartaglia, 1499?-1557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물질의 원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성분비에 의해 속도 결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갈릴레오 초기에는 밀도에 비례한다는 생각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-&gt; 1604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년이 되면 무게나 크기에 상관없이 모든 물체 동일한 속도로 낙하한다고 결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C82-E860-46C7-9F1B-27B323EA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F37-BECA-41B4-8021-CB5FDDD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686-CC24-4E58-9F03-E1E85E2F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D57-6188-4B59-9CEC-1731A44D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ED80-FEEC-4E6F-B5DC-9EE41CD7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71F9-7223-4460-B3FF-3D2C1887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C6DB-C21F-40A9-AADF-E4C7664B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E5F4-684D-4E19-BA2C-1F62C93A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86FA-323B-48DC-B75F-909A756D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5016-659C-4B9A-AC33-E522BA6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CC16-70E8-4202-B1D9-E22264D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22E-6F39-454D-9AB8-4AE57FC1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1500-B0CB-49F0-9BA9-58C48ADF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6E9B-E7FF-47E2-80A3-21A2B4C6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8A9F-5BD0-45A5-9C0D-43D69FE7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0165-166D-4840-BDB5-4C3E7B7A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C936-89C6-4FD5-A6F5-8369343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40C-CC1E-43E4-94F8-E6F364D6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950-47BD-4797-9DBB-21CB1526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ADF-0D55-4FB0-85C3-FC43DC1B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5AE-FAAD-4A98-81DA-EA4946DD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3A4-C547-4C40-B9D5-9B4031D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D30-4322-4D88-9B5D-F4E66A9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B44-0ECE-4BB7-A1F6-EE8A3262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4368-F050-4D64-80C0-EF3B88BC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B0E9-D4CB-432B-8CA9-35459E52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Sidereus_Nuncius" TargetMode="External"/><Relationship Id="rId3" Type="http://schemas.openxmlformats.org/officeDocument/2006/relationships/hyperlink" Target="http://en.wikipedia.org/wiki/Sidereus_Nuncius" TargetMode="External"/><Relationship Id="rId4" Type="http://schemas.openxmlformats.org/officeDocument/2006/relationships/hyperlink" Target="http://en.wikipedia.org/wiki/Sidereus_Nuncius" TargetMode="External"/><Relationship Id="rId5" Type="http://schemas.openxmlformats.org/officeDocument/2006/relationships/hyperlink" Target="http://en.wikipedia.org/wiki/Dialogue_Concerning_the_Two_Chief_World_Systems" TargetMode="External"/><Relationship Id="rId6" Type="http://schemas.openxmlformats.org/officeDocument/2006/relationships/hyperlink" Target="http://en.wikipedia.org/wiki/Two_New_Sciences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4462560" cy="878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Microsoft Sans Serif"/>
              </a:rPr>
              <a:t>역학 혁명 </a:t>
            </a: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1: </a:t>
            </a:r>
            <a:r>
              <a:rPr b="1" lang="zh-CN" sz="4000" spc="-1" strike="noStrike">
                <a:solidFill>
                  <a:srgbClr val="cc0000"/>
                </a:solidFill>
                <a:latin typeface="Microsoft Sans Serif"/>
              </a:rPr>
              <a:t>갈릴레오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 역학의 공헌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(1)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관성 개념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관성의 법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: “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운동하는 물체는 외부에서 그 운동을 멈추게 하지 않는 한 계속 운동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따라서 운동을 계속하게 하는 것이 무엇인가가 아니라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을 멈추게 하는 것이 무엇인지 물어야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운동 개념 자체의 변화 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운동은 ‘과정’이 아니라 ‘상태’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수직으로 쏘아 올린 화살은 왜 제자리에 떨어지는가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A 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지구가 자전하지 않는 증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지구의 운동은 공기 중의 화살에 아무런 영향을 못 미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G 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화살은 쏘아 올리기 전에 이미 지구와 함께 운동하고 있었고 따라서 공중에 쏘아 올려진 화살도 원래의 지구 자전 방향 운동을 계속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 역학의 공헌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(2)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운동의 상대성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2924280"/>
            <a:ext cx="7929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운동의 상대성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(relativity) 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원리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은 두 물체 사이의 관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은 운동을 하지 않는 물체에 대해서 상대적으로 나타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을 같이 하는 물체에 대해서는 나타나지 않음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지구가 돈다면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왜 사람이 이를 느끼지 못하나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?”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물체와 같이 운동하고 있으면 그 물체의 운동을 느끼지 못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과 정지에 대한 새로운 설명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물체의 운동과 정지는 본질적으로 구분 불가능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36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603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 역학의 공헌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(3)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운동의 합성과 분해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운동의 합성 → 포물선 운동 설명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60920" y="2852640"/>
            <a:ext cx="2358720" cy="3413160"/>
            <a:chOff x="3760920" y="2852640"/>
            <a:chExt cx="2358720" cy="34131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3760920" y="2852640"/>
              <a:ext cx="2358720" cy="34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33840" y="3573360"/>
              <a:ext cx="1512360" cy="266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1280" y="2809800"/>
            <a:ext cx="2460600" cy="352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356600" y="28116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굴림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9640" y="324324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024360" y="32418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759120" y="2852640"/>
            <a:ext cx="2359080" cy="3413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81120" y="342900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1581120" y="479736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3645000"/>
            <a:ext cx="57636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941480" y="4221000"/>
            <a:ext cx="720720" cy="100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2446200" y="5084640"/>
            <a:ext cx="5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33840" y="3500280"/>
            <a:ext cx="504720" cy="576360"/>
            <a:chOff x="4533840" y="3500280"/>
            <a:chExt cx="504720" cy="576360"/>
          </a:xfrm>
        </p:grpSpPr>
        <p:sp>
          <p:nvSpPr>
            <p:cNvPr id="136" name=""/>
            <p:cNvSpPr/>
            <p:nvPr/>
          </p:nvSpPr>
          <p:spPr>
            <a:xfrm>
              <a:off x="4533840" y="371628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8200" y="350028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462560" y="3500280"/>
            <a:ext cx="1008000" cy="1152720"/>
            <a:chOff x="4462560" y="3500280"/>
            <a:chExt cx="1008000" cy="1152720"/>
          </a:xfrm>
        </p:grpSpPr>
        <p:sp>
          <p:nvSpPr>
            <p:cNvPr id="139" name=""/>
            <p:cNvSpPr/>
            <p:nvPr/>
          </p:nvSpPr>
          <p:spPr>
            <a:xfrm>
              <a:off x="4462560" y="3860640"/>
              <a:ext cx="10080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94200" y="3500280"/>
              <a:ext cx="576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389480" y="3500280"/>
            <a:ext cx="1441440" cy="2089440"/>
            <a:chOff x="4389480" y="3500280"/>
            <a:chExt cx="1441440" cy="2089440"/>
          </a:xfrm>
        </p:grpSpPr>
        <p:sp>
          <p:nvSpPr>
            <p:cNvPr id="142" name=""/>
            <p:cNvSpPr/>
            <p:nvPr/>
          </p:nvSpPr>
          <p:spPr>
            <a:xfrm>
              <a:off x="4389480" y="4653000"/>
              <a:ext cx="144144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98920" y="3500280"/>
              <a:ext cx="43200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89480" y="3500280"/>
            <a:ext cx="1657080" cy="2737080"/>
            <a:chOff x="4389480" y="3500280"/>
            <a:chExt cx="1657080" cy="2737080"/>
          </a:xfrm>
        </p:grpSpPr>
        <p:sp>
          <p:nvSpPr>
            <p:cNvPr id="145" name=""/>
            <p:cNvSpPr/>
            <p:nvPr/>
          </p:nvSpPr>
          <p:spPr>
            <a:xfrm>
              <a:off x="4389480" y="5589720"/>
              <a:ext cx="16570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86200" y="3500280"/>
              <a:ext cx="360360" cy="23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31000" y="1657440"/>
            <a:ext cx="2038320" cy="1181160"/>
            <a:chOff x="6831000" y="1657440"/>
            <a:chExt cx="2038320" cy="1181160"/>
          </a:xfrm>
        </p:grpSpPr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6831000" y="1657440"/>
              <a:ext cx="203832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643880" y="2133720"/>
              <a:ext cx="115236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3320" y="3745080"/>
            <a:ext cx="2038320" cy="2923920"/>
            <a:chOff x="6853320" y="3745080"/>
            <a:chExt cx="2038320" cy="2923920"/>
          </a:xfrm>
        </p:grpSpPr>
        <p:pic>
          <p:nvPicPr>
            <p:cNvPr id="151" name="" descr=""/>
            <p:cNvPicPr/>
            <p:nvPr/>
          </p:nvPicPr>
          <p:blipFill>
            <a:blip r:embed="rId6"/>
            <a:stretch/>
          </p:blipFill>
          <p:spPr>
            <a:xfrm>
              <a:off x="6853320" y="3745080"/>
              <a:ext cx="203832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427880" y="4437000"/>
              <a:ext cx="503280" cy="216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6831000" y="1671480"/>
            <a:ext cx="2038320" cy="1181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43880" y="1987560"/>
            <a:ext cx="431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7932600" y="220500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292960" y="220500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6853320" y="3716280"/>
            <a:ext cx="203832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356600" y="4437000"/>
            <a:ext cx="50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7356600" y="4869000"/>
            <a:ext cx="5032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7356600" y="5734080"/>
            <a:ext cx="5032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와 실험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실험과학의 아버지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안락의자의 철학자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실험 수치 제시하는 경우 거의 없음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간혹 제시되는 수치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오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현실적으로 수행하기 힘든 실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갈릴레오는 실험을 수행하지 않았다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실험가로서의 갈릴레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드레이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갈릴레오 실험노트 발굴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유낙하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경사면 실험 재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   </a:t>
            </a: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실제 실험을 했다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★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그렇지만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많은 실험들은 사고실험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!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실제 한 실험도 이미 이론적으로 도달한 결론을 보여주는 ‘시연’에 가까움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19640" y="399960"/>
            <a:ext cx="38908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 역학의 성과와 한계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 역학의 성과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상적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수학적 조건 상정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2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확하고 논리적인 수학적 방법을 사용하여 운동을 분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기술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3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과 정지의 절대적 구분 타파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 역학의 한계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등속원운동으로서의 관성 개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2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물체가 낙하하는 이유는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물체 자체의 속성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: naturally accelerated motion 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낙하 운동에만 한정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의 한계는 데카르트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호이겐스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뉴턴에 의해 극복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직선 관성 운동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원 운동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중력에 의한 자유낙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갈릴레오의 초기 역학과 임페투스 이론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상승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낙하 운동의 설명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v ∝ Impetus - Gravitas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상승의 원인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impetus) &g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gravitas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상승의 감속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점진적 소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낙하의 원인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l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낙하의 가속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점진적 소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즉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임페투스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(impetus)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와 무거움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(gravitas)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사이의 합성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임페투스는 정점에서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0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이 되지 않음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렇다면 그 상태에서 수평방향으로 운동을 시킨다면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강제적이지도 자연적이지도 않지만 항구적으로 운동하는 중간적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(intermediate)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운동 가능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초기 역학과 아르키메데스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중세의 몇몇 논변가들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낙하속도는 물체의 </a:t>
            </a: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원소성분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에 의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원소성분비가 같은 두 물체는 같은 속도로 낙하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진공 중에서도 무한대의 속도 가지지 않음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갈릴레오의 초기 낙하운동 법칙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르키메데스의 영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물체와 매질의 밀도 차이 관계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v ∝ (d-d</a:t>
            </a:r>
            <a:r>
              <a:rPr b="0" lang="ko-KR" sz="1800" spc="-1" strike="noStrike" baseline="-25000">
                <a:solidFill>
                  <a:srgbClr val="cc0000"/>
                </a:solidFill>
                <a:latin typeface="Microsoft Sans Serif"/>
              </a:rPr>
              <a:t>m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 (d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체의 밀도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, d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Microsoft Sans Serif"/>
              </a:rPr>
              <a:t>m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매질의 밀도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) (e.g.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과 나무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만약 매질의 밀도가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 되는 진공에서 낙하시킨다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낙하속도는 물체의 밀도에만 비례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밀도가 같은 물체는 같은 속도로 낙하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점차적인 변화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모든 물체는 한 가지의 물질입자들로 구성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체마다의 성질과 밀도 차이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입자들의 조밀성 차이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따라서 “진공 하에서 모든 물체는 같은 속도를 가져야 함” </a:t>
            </a: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(1604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역학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Before and After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11280" y="1197000"/>
          <a:ext cx="7920000" cy="2868480"/>
        </p:xfrm>
        <a:graphic>
          <a:graphicData uri="http://schemas.openxmlformats.org/drawingml/2006/table">
            <a:tbl>
              <a:tblPr/>
              <a:tblGrid>
                <a:gridCol w="1944720"/>
                <a:gridCol w="2987640"/>
                <a:gridCol w="29876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15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년 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17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년 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학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아리스토텔레스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→ 스콜라철학자들→ 갈릴레오→ 데카르트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뉴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설명의 대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운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운동의 변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운동의 원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외부의 작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필요 없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(∵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관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운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정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엄격한 구분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과정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상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기준틀에 따라 상대적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상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자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강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엄격한 구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구분 없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힘의 합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천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지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엄격한 구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구분 없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3748320" cy="242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148360" y="4238640"/>
            <a:ext cx="33177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중세 운동이론의 발전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V∝ F/R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의 개량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리스토텔레스 운동이론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/R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문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F&lt;R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일 경우에도 속도를 가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F-R)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음의 속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여전히 문제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브래드워딘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1325-1382)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의 제안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Merton College)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일단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/R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에서 출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F&gt;R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어서 운동이 시작되는 경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/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 줄이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1/2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/2V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/3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 줄이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1/3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/3V 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배로 키우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2   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2V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결국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V∝ log(F/R) (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단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, F≥R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중세 운동이론의 발전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투사체에 대한 이론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리스토텔레스 운동 이론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외부의 작용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Mover)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필요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그런데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활을 떠난 화살은 어떻게 움직이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아리스토텔레스의 설명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: 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공기’가 밀어준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그렇다면 화살의 끝이 평평한 화살이 더 힘을 잘 받아야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팽이는 어떻게 계속 돌 수 있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*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러한 문제 때문에 임페투스라는 “내부의 운동원인” 상정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장 뷰리당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1300-1358)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의 임페투스 이론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처음 운동원인은 임페투스를 물체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크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질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x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속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mv 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량과 크기는 같지만…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가 점점 소진되어 정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여전히 자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gravitas) vs.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강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impetus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구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중세 운동이론의 발전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운동의 기술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(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記述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5325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영국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Merton College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의 학자들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운동에 대한 기하학적 기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가로축에 시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로축에 속도를 표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그래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순간 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평균 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질한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속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’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일하게 비균질한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가속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’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의 개념 고안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오렘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(1323-1382)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의 평균속도 정리 및 증명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일하게 비균질한 운동’을 하는 물체가 움직인 거리를 그 평균속도로 ‘균질하게 운동’할 때의 거리로 환산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실제 운동에 적용하진 않음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원인에 대한 무관심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현상만 기술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73840" y="1535040"/>
            <a:ext cx="25686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갈릴레오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Galileo Galilei, 1564-1642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75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피사 대학의 수학 교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588-1592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파도바 대학의 수학 교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592-1610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초기 역학 연구 노트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i="1" lang="ko-KR" sz="2000" spc="-1" strike="noStrike">
                <a:solidFill>
                  <a:srgbClr val="000000"/>
                </a:solidFill>
                <a:latin typeface="Microsoft Sans Serif"/>
              </a:rPr>
              <a:t>De Motu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(1590s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2"/>
              </a:rPr>
              <a:t>Sidereus</a:t>
            </a: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3"/>
              </a:rPr>
              <a:t> </a:t>
            </a: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4"/>
              </a:rPr>
              <a:t>Nuncius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(1610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메디치가의 철학자 겸 수학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610-1633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5"/>
              </a:rPr>
              <a:t>Dialogue Concerning the Two Chief World Systems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(1632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종교재판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633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역학 연구 매진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6"/>
              </a:rPr>
              <a:t>Two New Sciences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(1638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332320" y="1484280"/>
            <a:ext cx="3036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초기 역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의 초기 역학 연구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피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파도바 대학 강사시절 습작 노트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&lt;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에 관하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gt;(</a:t>
            </a:r>
            <a:r>
              <a:rPr b="1" i="1" lang="ko-KR" sz="2200" spc="-1" strike="noStrike">
                <a:solidFill>
                  <a:srgbClr val="000000"/>
                </a:solidFill>
                <a:latin typeface="Microsoft Sans Serif"/>
              </a:rPr>
              <a:t>De Motu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,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590s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사고실험을 통해 아리스토텔레스 역학의 논리적 모순 비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2619360" cy="309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19640" y="3357720"/>
            <a:ext cx="2619360" cy="3093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156360" y="3357720"/>
            <a:ext cx="26193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낙하 법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힘</a:t>
            </a:r>
            <a:r>
              <a:rPr b="1" lang="en-US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저항</a:t>
            </a:r>
            <a:r>
              <a:rPr b="1" lang="en-US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속도 사이의 관계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Microsoft Sans Serif"/>
              </a:rPr>
              <a:t> 자유낙하의 법칙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Microsoft Sans Serif"/>
              </a:rPr>
              <a:t>   </a:t>
            </a:r>
            <a:r>
              <a:rPr b="0" lang="en-US" sz="20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모든 물체는 무게와 크기에 상관없이 동일한 속도로 낙하한다” 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(1604</a:t>
            </a: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년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낙체의 속도는 무게에 비례하는 것이 아니라 시간에 비례할 것이라는 믿음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 실험보다는 이론적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추상적 사고 통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(1) v∝ t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가정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속도는 낙하시간에 비례하여 증가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(2)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시간당 이동거리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:  1    3    5     7     9    11 . . . 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(3)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누적    이동거리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:  1    4    9   16    25   36 . . .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(4)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결국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s∝ t</a:t>
            </a:r>
            <a:r>
              <a:rPr b="0" lang="en-US" sz="19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: </a:t>
            </a:r>
            <a:r>
              <a:rPr b="1" lang="en-US" sz="19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1" lang="zh-CN" sz="1900" spc="-1" strike="noStrike">
                <a:solidFill>
                  <a:srgbClr val="cc0000"/>
                </a:solidFill>
                <a:latin typeface="Microsoft Sans Serif"/>
              </a:rPr>
              <a:t>물체의 낙하거리는 시간의 제곱에 비례한다”</a:t>
            </a:r>
            <a:r>
              <a:rPr b="1" lang="en-US" sz="1900" spc="-1" strike="noStrike">
                <a:solidFill>
                  <a:srgbClr val="cc0000"/>
                </a:solidFill>
                <a:latin typeface="Microsoft Sans Serif"/>
              </a:rPr>
              <a:t>(1633</a:t>
            </a:r>
            <a:r>
              <a:rPr b="1" lang="zh-CN" sz="1900" spc="-1" strike="noStrike">
                <a:solidFill>
                  <a:srgbClr val="cc0000"/>
                </a:solidFill>
                <a:latin typeface="Microsoft Sans Serif"/>
              </a:rPr>
              <a:t>년</a:t>
            </a:r>
            <a:r>
              <a:rPr b="1" lang="en-US" sz="19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갈릴레오 초기 역학 연구의 특징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역학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자연철학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의 목표 변경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: Why </a:t>
            </a: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 How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운동의 원인이나 목적을 밝혀내는 것이 아니라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운동 자체를 정확히 기술하는 것에 주력해야…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피사 사탑 실험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역학 혁명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두 가지 새로운 과학에 관한 논의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&gt; (1638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종교재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633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초기의 역학 연구 재검토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새로운 두 과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출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자신의 역학 연구 집대성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베네치아 병기창에서 진행되는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일간의 대화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심플리치오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아리스토텔레스주의자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1900" spc="-1" strike="noStrike" u="sng">
                <a:solidFill>
                  <a:srgbClr val="cc0000"/>
                </a:solidFill>
                <a:uFillTx/>
                <a:latin typeface="Microsoft Sans Serif"/>
              </a:rPr>
              <a:t>갈릴레오의 초기 모습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사그레도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합리적인 아마추어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1900" spc="-1" strike="noStrike" u="sng">
                <a:solidFill>
                  <a:srgbClr val="cc0000"/>
                </a:solidFill>
                <a:uFillTx/>
                <a:latin typeface="Microsoft Sans Serif"/>
              </a:rPr>
              <a:t>아르키메데스에 심취한 갈릴레오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살비아티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갈릴레오의 대변인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1900" spc="-1" strike="noStrike" u="sng">
                <a:solidFill>
                  <a:srgbClr val="cc0000"/>
                </a:solidFill>
                <a:uFillTx/>
                <a:latin typeface="Microsoft Sans Serif"/>
              </a:rPr>
              <a:t>말년의 갈릴레오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역학에 대한 완숙한 견해에 도달할 때까지의 연대기적 단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갈릴레오의 말기 역학 연구의 특징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신학적으로 논란의 소지가 적은 역학 연구에 몰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실제 목적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태양중심 우주체계를 받아들일 때 생기는 역학적 문제들 해결하기 위해 노력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Microsoft Sans Serif"/>
              </a:rPr>
              <a:t>갈릴레오의 세 가지 운동 원리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  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(1)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관성의 법칙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/ (2)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운동의 상대성 원리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/ (3)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운동의 합성과 분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07:59Z</dcterms:modified>
  <cp:revision>23</cp:revision>
  <dc:subject/>
  <dc:title>중세 유럽의 과학</dc:title>
</cp:coreProperties>
</file>